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83B-220A-4C11-BC74-DC177891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636-15A0-4CE2-81F6-64744060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EB1-865E-4E1A-8963-F712EF9F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BB8-E4A2-4C58-B667-795079ED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254-FC01-4ED7-8B2F-B8F6B0F2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2EE-EC95-49D6-AEFF-9AD38971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926-2703-4963-8FCC-9A7BB5A7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3B9-F5E2-4CD2-9E1A-647D5EDA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AA3-82FD-4F97-9DAB-2043C916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B80-84B7-4AEF-8DB9-3D93915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C06-1A3F-4DD0-B366-B837E3D3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CDF-FE64-4ED4-BD61-ECB1E52D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C8C4-0306-4FDD-83ED-2A1147FF313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r çiçek buldum mektupların arasın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ooperatife gireceği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Film izlemeye gitmişsi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blas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programda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yarışaca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İki saat çalıştı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imd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unutacağız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albimiz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f"/>
          </a:solidFill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KURU YAPRAK, YEŞERİR Mİ?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O GÜN ANLADIM GERÇEĞİ. 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MERHAMET ETMİYORSUN HİÇ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BUGÜN YÜRÜYECEKLER DAĞDAN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NİYE KÜSTÜK BİRBİRİMİ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orku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yaşatıyoruz çocuklar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Virajlı yollardan geçti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Biletçi avaz avaz bağırıyo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Anneme çiçek yaptırd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ilesi onu sev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arı laleler aldım sana pazar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dam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televizyonu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onarmı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Patronu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yanına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gitt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25:54Z</dcterms:modified>
  <cp:revision>94</cp:revision>
  <dc:subject/>
  <dc:title>KONU 1</dc:title>
</cp:coreProperties>
</file>